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D47-4E65-4645-9165-794C138E0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lide might be confusing. Still working on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F322-B947-4BC3-A20E-B6151B6029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o say ll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s ur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89F1-F803-43D9-A4F5-8898D1A3A7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eat a steak and all that protein what is the difference b/w the protein we eat and the protein we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we eat is broken up into AA that our cells use to make  mor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701-F1B0-4F38-9E58-006123D14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ickle cell will reproduce a new sickle cell. More common in african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A68F-5136-46E1-9FB8-97B4819B59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ic acid- stores cellular information in cells in form of a co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755-DF22-4A03-88DF-58D5CC4C5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1F0-CCC5-4A30-918E-C1E3697CE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replication Purpose- Double number of chromosomes for mit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cription purpose- bring message to the ribosome to mak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B3C3-EAD3-46C7-B83D-CC3F47573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9EB-E90B-4780-8BE0-5683802E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E7D-97AD-4120-8969-55ED11BA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783-DFCC-41A5-A254-BDCDB6A7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E549-B2A3-4EA4-83E5-E94AD27A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402D-D04D-4FE4-84A9-C9BBB807F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1603-EB0C-478F-9677-30509EAD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6476-FA6D-42A5-A2C5-025ADCA5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33D4-11DE-452C-A07A-B0AFC327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AA1F-86DB-42A5-9539-C679F69C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678D-883D-47AC-88C9-756D2BE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2CA7-51F8-474E-BFBF-DA56468E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9D9-3237-4D11-BF88-6434C1BA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8404-4426-4D16-AF85-4397EB7A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65DE-4BE0-4101-B1F1-9352B523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E40D-7FA9-48E0-B532-D8F93A6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7E54-02B4-423E-8EA6-C658306F0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95D4-40A1-463F-A216-A5116144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A95C9-9434-42B5-81B4-A97F81AD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1F6EE5-2CD5-49A8-8BDD-CD65F049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ECBEB8-8950-4AC0-B5BB-864166A7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A5AAC-788F-4264-B8AB-178906F3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B281A-20AB-4AD4-850E-101A1205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AA6-6A8F-486B-B152-C4A92472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FFE37-8699-4A30-9B1D-6331DA7C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53BFB-4F0B-4D8B-A967-5E194D74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1B3E4-6B01-4BAD-A691-2C64E080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5B14E-5B40-4189-9F3F-8EF2629B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3930F-60F1-4D95-B50A-1912D23E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E7AB18-97FD-4DDE-B17E-7FBFAD7F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9EAE7-FEEF-4BF2-87DB-085BAC6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F7BB-A1BF-4F22-AC7C-CE54D8A2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669EC-031B-49F3-875A-2EF745D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BA04-8502-4D57-A893-2AF278CA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105-A4F6-4CD4-A6A1-636B6FC6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7CBF-C4B8-4692-B8F9-5B4687F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97215-DADE-40CF-8EA2-F7E045B6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325F9-54B9-4E42-A377-60DBA142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9919-5CCA-4CF0-96E1-4F1E3CC6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F9F19-F13E-46A8-97CE-001A18F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9920F-62D8-4537-8AED-60365763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8FE6-29A4-4E3E-AD62-4F3D02B7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6EB63-BFCC-41C2-B6A3-4865A971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8651-FBD9-4702-9BA8-CCF015F3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741-7785-41CB-9A39-FD15704D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583-918E-4289-9DDE-003401B5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C6FE-0C6C-488D-B4EF-C14CD067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288-983B-4B6F-9C2E-B58222FE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9ED-241A-4852-8272-9AAB0837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FDA-6D0D-400E-B02D-584D4AF2A66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CAD7-F333-4302-A80D-C556D484CC1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B6ED-4C9B-461A-8788-C3A705B759F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C8EF-7177-4956-A8E4-71AC9EC141A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From DNA to Protein (11.2)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tic Code “Alphabet”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7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Content Placeholder 6" descr=""/>
          <p:cNvPicPr/>
          <p:nvPr/>
        </p:nvPicPr>
        <p:blipFill>
          <a:blip r:embed="rId1"/>
          <a:stretch/>
        </p:blipFill>
        <p:spPr>
          <a:xfrm>
            <a:off x="-12600" y="371520"/>
            <a:ext cx="9175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ranslation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mRNA</a:t>
            </a:r>
            <a:r>
              <a:rPr b="0" lang="en-US" sz="36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protein) p.294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in the cytoplasm at the riboso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RNA attaches to ribosome. tRNA (carrying a specific AA) approaches riboso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NA (anticodon) attaches with mRNA (codo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new tRNA molecule attaches next to previous tRNA molecule and AA from each tRNA bond together (peptide bon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osome slides down mRNA molecule to allow a new tRNA to attach. Old tRNA molecules are releas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long chain of AA is formed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tein!!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Protein Synthesis Animation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o it yourself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at is a Protein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omplex, 3-dimensional structures made from chains of amino acid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gulate cell fun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duced at the ribosom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: Blood contains red blood cells (RBC) that transport oxygen to different parts of our bodies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BC’s use a protein called “hemoglobin” to capture and carry the oxyge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e instructions (DNA) are changed or “mutated” changes in the hemoglobin protein could result. The RBCwould no longer be able to carry oxygen (Sickle Cell Anemia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689960" cy="53845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91440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ckle Cell Anem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are proteins made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tein Synthe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NA (Ribose Nucleic Ac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w does RNA differ from DNA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ngle stranded (half-zipper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e sugar in RNA is ribose (DNA has deoxyribose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stead of Thymine (T), RNA contains Uracil (U) in R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Adenine (A) pairs with Uracil (U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 types of RN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ssenger RNA (m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ibosomal RNA (r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nsfer RNA (tRNA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Transcription</a:t>
            </a: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(DNA</a:t>
            </a:r>
            <a:r>
              <a:rPr b="0" lang="en-US" sz="3600" spc="-1" strike="noStrike">
                <a:solidFill>
                  <a:srgbClr val="424456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 mRNA)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zyme unzips DNA molecu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 RNA nucleotides form with complementary base pair (G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 and A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ew mRNA strand leaves nucleus  and enters the cytoplasm (finds ribosom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www.stolaf.edu/people/giannini/flashanimat/molgenetics/transcription.sw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NA replication vs. Transcrip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ouble stranded D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Purpose?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ngle stranded RNA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38086"/>
                </a:solidFill>
                <a:latin typeface="Georgia"/>
              </a:rPr>
              <a:t>Purpose?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tic Co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3 nitrogenous bases of mRNA code for one Amino Aci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group is known as a cod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x: The codon GCU results in the amino acid Alanin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48320" y="2249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64 combinations are possible when using  a sequence of 3 nitrogenous bas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Universal Code for all organis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5:07:24Z</dcterms:created>
  <dc:creator>Registered User</dc:creator>
  <dc:description/>
  <dc:language>en-US</dc:language>
  <cp:lastModifiedBy>Registered User</cp:lastModifiedBy>
  <dcterms:modified xsi:type="dcterms:W3CDTF">2009-01-29T15:11:53Z</dcterms:modified>
  <cp:revision>13</cp:revision>
  <dc:subject/>
  <dc:title>From DNA to Protein (11.2)</dc:title>
</cp:coreProperties>
</file>